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146160" y="268200"/>
            <a:ext cx="8834400" cy="63453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-11160" y="-27000"/>
            <a:ext cx="9226440" cy="6940440"/>
          </a:xfrm>
          <a:prstGeom prst="rect">
            <a:avLst/>
          </a:prstGeom>
          <a:solidFill>
            <a:srgbClr val="00000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4">
            <a:hlinkClick r:id="" action="ppaction://hlinkshowjump?jump=previousslide"/>
          </p:cNvPr>
          <p:cNvSpPr/>
          <p:nvPr/>
        </p:nvSpPr>
        <p:spPr>
          <a:xfrm>
            <a:off x="7662960" y="6729480"/>
            <a:ext cx="395280" cy="127080"/>
          </a:xfrm>
          <a:custGeom>
            <a:avLst/>
            <a:gdLst>
              <a:gd name="textAreaLeft" fmla="*/ 7920 w 395280"/>
              <a:gd name="textAreaRight" fmla="*/ 387360 w 395280"/>
              <a:gd name="textAreaTop" fmla="*/ 7920 h 127080"/>
              <a:gd name="textAreaBottom" fmla="*/ 119160 h 127080"/>
            </a:gdLst>
            <a:ahLst/>
            <a:rect l="textAreaLeft" t="textAreaTop" r="textAreaRight" b="textAreaBottom"/>
            <a:pathLst>
              <a:path w="67058" h="21600">
                <a:moveTo>
                  <a:pt x="0" y="0"/>
                </a:moveTo>
                <a:lnTo>
                  <a:pt x="67058" y="0"/>
                </a:lnTo>
                <a:lnTo>
                  <a:pt x="67058" y="21600"/>
                </a:lnTo>
                <a:lnTo>
                  <a:pt x="0" y="21600"/>
                </a:lnTo>
                <a:close/>
              </a:path>
              <a:path fill="lightenLess" w="67058" h="21600">
                <a:moveTo>
                  <a:pt x="0" y="0"/>
                </a:moveTo>
                <a:lnTo>
                  <a:pt x="67058" y="0"/>
                </a:lnTo>
                <a:lnTo>
                  <a:pt x="65658" y="1400"/>
                </a:lnTo>
                <a:lnTo>
                  <a:pt x="1400" y="1400"/>
                </a:lnTo>
                <a:close/>
              </a:path>
              <a:path fill="darken" w="67058" h="21600">
                <a:moveTo>
                  <a:pt x="67058" y="0"/>
                </a:moveTo>
                <a:lnTo>
                  <a:pt x="67058" y="21600"/>
                </a:lnTo>
                <a:lnTo>
                  <a:pt x="65658" y="20200"/>
                </a:lnTo>
                <a:lnTo>
                  <a:pt x="65658" y="1400"/>
                </a:lnTo>
                <a:close/>
              </a:path>
              <a:path fill="darkenLess" w="67058" h="21600">
                <a:moveTo>
                  <a:pt x="670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658" y="20200"/>
                </a:lnTo>
                <a:close/>
              </a:path>
              <a:path fill="lighten" w="670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058" h="21600">
                <a:moveTo>
                  <a:pt x="26522" y="10800"/>
                </a:moveTo>
                <a:lnTo>
                  <a:pt x="40535" y="3794"/>
                </a:lnTo>
                <a:lnTo>
                  <a:pt x="40535" y="1780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62352"/>
                </a:srgbClr>
              </a:gs>
              <a:gs pos="100000">
                <a:srgbClr val="336699">
                  <a:alpha val="89019"/>
                </a:srgbClr>
              </a:gs>
            </a:gsLst>
            <a:lin ang="5400000"/>
          </a:gradFill>
          <a:ln w="0">
            <a:solidFill>
              <a:srgbClr val="339966">
                <a:alpha val="52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5">
            <a:hlinkClick r:id="" action="ppaction://hlinkshowjump?jump=firstslide"/>
          </p:cNvPr>
          <p:cNvSpPr/>
          <p:nvPr/>
        </p:nvSpPr>
        <p:spPr>
          <a:xfrm>
            <a:off x="8129520" y="6729480"/>
            <a:ext cx="395280" cy="127080"/>
          </a:xfrm>
          <a:custGeom>
            <a:avLst/>
            <a:gdLst>
              <a:gd name="textAreaLeft" fmla="*/ 7920 w 395280"/>
              <a:gd name="textAreaRight" fmla="*/ 387360 w 395280"/>
              <a:gd name="textAreaTop" fmla="*/ 7920 h 127080"/>
              <a:gd name="textAreaBottom" fmla="*/ 119160 h 127080"/>
            </a:gdLst>
            <a:ahLst/>
            <a:rect l="textAreaLeft" t="textAreaTop" r="textAreaRight" b="textAreaBottom"/>
            <a:pathLst>
              <a:path w="67058" h="21600">
                <a:moveTo>
                  <a:pt x="0" y="0"/>
                </a:moveTo>
                <a:lnTo>
                  <a:pt x="67058" y="0"/>
                </a:lnTo>
                <a:lnTo>
                  <a:pt x="67058" y="21600"/>
                </a:lnTo>
                <a:lnTo>
                  <a:pt x="0" y="21600"/>
                </a:lnTo>
                <a:close/>
              </a:path>
              <a:path fill="lightenLess" w="67058" h="21600">
                <a:moveTo>
                  <a:pt x="0" y="0"/>
                </a:moveTo>
                <a:lnTo>
                  <a:pt x="67058" y="0"/>
                </a:lnTo>
                <a:lnTo>
                  <a:pt x="65658" y="1400"/>
                </a:lnTo>
                <a:lnTo>
                  <a:pt x="1400" y="1400"/>
                </a:lnTo>
                <a:close/>
              </a:path>
              <a:path fill="darken" w="67058" h="21600">
                <a:moveTo>
                  <a:pt x="67058" y="0"/>
                </a:moveTo>
                <a:lnTo>
                  <a:pt x="67058" y="21600"/>
                </a:lnTo>
                <a:lnTo>
                  <a:pt x="65658" y="20200"/>
                </a:lnTo>
                <a:lnTo>
                  <a:pt x="65658" y="1400"/>
                </a:lnTo>
                <a:close/>
              </a:path>
              <a:path fill="darkenLess" w="67058" h="21600">
                <a:moveTo>
                  <a:pt x="670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658" y="20200"/>
                </a:lnTo>
                <a:close/>
              </a:path>
              <a:path fill="lighten" w="670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058" h="21600">
                <a:moveTo>
                  <a:pt x="33529" y="3837"/>
                </a:moveTo>
                <a:lnTo>
                  <a:pt x="36105" y="6448"/>
                </a:lnTo>
                <a:lnTo>
                  <a:pt x="36105" y="4707"/>
                </a:lnTo>
                <a:lnTo>
                  <a:pt x="37881" y="4707"/>
                </a:lnTo>
                <a:lnTo>
                  <a:pt x="37881" y="8224"/>
                </a:lnTo>
                <a:lnTo>
                  <a:pt x="40492" y="10800"/>
                </a:lnTo>
                <a:lnTo>
                  <a:pt x="38838" y="10800"/>
                </a:lnTo>
                <a:lnTo>
                  <a:pt x="38838" y="17989"/>
                </a:lnTo>
                <a:lnTo>
                  <a:pt x="28220" y="17989"/>
                </a:lnTo>
                <a:lnTo>
                  <a:pt x="28220" y="10800"/>
                </a:lnTo>
                <a:lnTo>
                  <a:pt x="26566" y="10800"/>
                </a:lnTo>
                <a:close/>
              </a:path>
              <a:path fill="darkenLess" w="67058" h="21600">
                <a:moveTo>
                  <a:pt x="36105" y="6448"/>
                </a:moveTo>
                <a:lnTo>
                  <a:pt x="36105" y="4707"/>
                </a:lnTo>
                <a:lnTo>
                  <a:pt x="37881" y="4707"/>
                </a:lnTo>
                <a:lnTo>
                  <a:pt x="37881" y="8224"/>
                </a:lnTo>
                <a:close/>
              </a:path>
              <a:path fill="darkenLess" w="67058" h="21600">
                <a:moveTo>
                  <a:pt x="32606" y="14299"/>
                </a:moveTo>
                <a:lnTo>
                  <a:pt x="34451" y="14299"/>
                </a:lnTo>
                <a:lnTo>
                  <a:pt x="34451" y="17989"/>
                </a:lnTo>
                <a:lnTo>
                  <a:pt x="38838" y="17989"/>
                </a:lnTo>
                <a:lnTo>
                  <a:pt x="38838" y="10800"/>
                </a:lnTo>
                <a:lnTo>
                  <a:pt x="28220" y="10800"/>
                </a:lnTo>
                <a:lnTo>
                  <a:pt x="28220" y="17989"/>
                </a:lnTo>
                <a:lnTo>
                  <a:pt x="32606" y="17989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62352"/>
                </a:srgbClr>
              </a:gs>
              <a:gs pos="100000">
                <a:srgbClr val="336699">
                  <a:alpha val="89019"/>
                </a:srgbClr>
              </a:gs>
            </a:gsLst>
            <a:lin ang="5400000"/>
          </a:gradFill>
          <a:ln w="0">
            <a:solidFill>
              <a:srgbClr val="339966">
                <a:alpha val="52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6">
            <a:hlinkClick r:id="" action="ppaction://hlinkshowjump?jump=nextslide"/>
          </p:cNvPr>
          <p:cNvSpPr/>
          <p:nvPr/>
        </p:nvSpPr>
        <p:spPr>
          <a:xfrm>
            <a:off x="8597880" y="6729480"/>
            <a:ext cx="395280" cy="127080"/>
          </a:xfrm>
          <a:custGeom>
            <a:avLst/>
            <a:gdLst>
              <a:gd name="textAreaLeft" fmla="*/ 7920 w 395280"/>
              <a:gd name="textAreaRight" fmla="*/ 387360 w 395280"/>
              <a:gd name="textAreaTop" fmla="*/ 7920 h 127080"/>
              <a:gd name="textAreaBottom" fmla="*/ 119160 h 127080"/>
            </a:gdLst>
            <a:ahLst/>
            <a:rect l="textAreaLeft" t="textAreaTop" r="textAreaRight" b="textAreaBottom"/>
            <a:pathLst>
              <a:path w="67058" h="21600">
                <a:moveTo>
                  <a:pt x="0" y="0"/>
                </a:moveTo>
                <a:lnTo>
                  <a:pt x="67058" y="0"/>
                </a:lnTo>
                <a:lnTo>
                  <a:pt x="67058" y="21600"/>
                </a:lnTo>
                <a:lnTo>
                  <a:pt x="0" y="21600"/>
                </a:lnTo>
                <a:close/>
              </a:path>
              <a:path fill="lightenLess" w="67058" h="21600">
                <a:moveTo>
                  <a:pt x="0" y="0"/>
                </a:moveTo>
                <a:lnTo>
                  <a:pt x="67058" y="0"/>
                </a:lnTo>
                <a:lnTo>
                  <a:pt x="65658" y="1400"/>
                </a:lnTo>
                <a:lnTo>
                  <a:pt x="1400" y="1400"/>
                </a:lnTo>
                <a:close/>
              </a:path>
              <a:path fill="darken" w="67058" h="21600">
                <a:moveTo>
                  <a:pt x="67058" y="0"/>
                </a:moveTo>
                <a:lnTo>
                  <a:pt x="67058" y="21600"/>
                </a:lnTo>
                <a:lnTo>
                  <a:pt x="65658" y="20200"/>
                </a:lnTo>
                <a:lnTo>
                  <a:pt x="65658" y="1400"/>
                </a:lnTo>
                <a:close/>
              </a:path>
              <a:path fill="darkenLess" w="67058" h="21600">
                <a:moveTo>
                  <a:pt x="670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658" y="20200"/>
                </a:lnTo>
                <a:close/>
              </a:path>
              <a:path fill="lighten" w="670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7058" h="21600">
                <a:moveTo>
                  <a:pt x="26522" y="3794"/>
                </a:moveTo>
                <a:lnTo>
                  <a:pt x="40535" y="10800"/>
                </a:lnTo>
                <a:lnTo>
                  <a:pt x="26522" y="1780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62352"/>
                </a:srgbClr>
              </a:gs>
              <a:gs pos="100000">
                <a:srgbClr val="336699">
                  <a:alpha val="89019"/>
                </a:srgbClr>
              </a:gs>
            </a:gsLst>
            <a:lin ang="5400000"/>
          </a:gradFill>
          <a:ln w="0">
            <a:solidFill>
              <a:srgbClr val="339966">
                <a:alpha val="52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9"/>
          <p:cNvSpPr/>
          <p:nvPr/>
        </p:nvSpPr>
        <p:spPr>
          <a:xfrm>
            <a:off x="3780000" y="6553080"/>
            <a:ext cx="49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Times New Roman"/>
                <a:ea typeface="宋体"/>
              </a:rPr>
              <a:t>Chenwei </a:t>
            </a:r>
            <a:r>
              <a:rPr b="1" i="1" lang="en-US" sz="1400" spc="-1" strike="noStrike">
                <a:solidFill>
                  <a:srgbClr val="808080"/>
                </a:solidFill>
                <a:latin typeface="Times New Roman"/>
              </a:rPr>
              <a:t>Jiang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808080"/>
                </a:solidFill>
                <a:latin typeface="Times New Roman"/>
                <a:ea typeface="宋体"/>
              </a:rPr>
              <a:t>, Xi’an Jiaotong University, 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12"/>
          <p:cNvSpPr/>
          <p:nvPr/>
        </p:nvSpPr>
        <p:spPr>
          <a:xfrm>
            <a:off x="34920" y="-28440"/>
            <a:ext cx="23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Times New Roman"/>
                <a:ea typeface="宋体"/>
              </a:rPr>
              <a:t>Computational Phys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1981080" y="685800"/>
            <a:ext cx="3810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3"/>
          <p:cNvSpPr/>
          <p:nvPr/>
        </p:nvSpPr>
        <p:spPr>
          <a:xfrm>
            <a:off x="684360" y="333360"/>
            <a:ext cx="7777080" cy="5814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用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ATLAB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作插值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interpolation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计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5"/>
          <p:cNvSpPr/>
          <p:nvPr/>
        </p:nvSpPr>
        <p:spPr>
          <a:xfrm>
            <a:off x="2268360" y="333360"/>
            <a:ext cx="3810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6"/>
          <p:cNvSpPr/>
          <p:nvPr/>
        </p:nvSpPr>
        <p:spPr>
          <a:xfrm>
            <a:off x="179280" y="98100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</a:rPr>
              <a:t>一维插值函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7"/>
          <p:cNvSpPr/>
          <p:nvPr/>
        </p:nvSpPr>
        <p:spPr>
          <a:xfrm>
            <a:off x="755640" y="134136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魏碑"/>
              </a:rPr>
              <a:t>yi=interp1(x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魏碑"/>
              </a:rPr>
              <a:t>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魏碑"/>
              </a:rPr>
              <a:t>y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魏碑"/>
              </a:rPr>
              <a:t>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魏碑"/>
              </a:rPr>
              <a:t>xi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魏碑"/>
              </a:rPr>
              <a:t>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魏碑"/>
              </a:rPr>
              <a:t>'method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8"/>
          <p:cNvGrpSpPr/>
          <p:nvPr/>
        </p:nvGrpSpPr>
        <p:grpSpPr>
          <a:xfrm>
            <a:off x="5508720" y="2006640"/>
            <a:ext cx="2971800" cy="1008720"/>
            <a:chOff x="5508720" y="2006640"/>
            <a:chExt cx="2971800" cy="1008720"/>
          </a:xfrm>
        </p:grpSpPr>
        <p:sp>
          <p:nvSpPr>
            <p:cNvPr id="49" name="Text Box 19"/>
            <p:cNvSpPr/>
            <p:nvPr/>
          </p:nvSpPr>
          <p:spPr>
            <a:xfrm>
              <a:off x="6728040" y="2616480"/>
              <a:ext cx="1752480" cy="398880"/>
            </a:xfrm>
            <a:prstGeom prst="rect">
              <a:avLst/>
            </a:prstGeom>
            <a:solidFill>
              <a:srgbClr val="ffff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魏碑"/>
                  <a:ea typeface="魏碑"/>
                </a:rPr>
                <a:t>插值方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20"/>
            <p:cNvSpPr/>
            <p:nvPr/>
          </p:nvSpPr>
          <p:spPr>
            <a:xfrm>
              <a:off x="5508720" y="2006640"/>
              <a:ext cx="1219320" cy="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21"/>
            <p:cNvSpPr/>
            <p:nvPr/>
          </p:nvSpPr>
          <p:spPr>
            <a:xfrm>
              <a:off x="6118200" y="2006640"/>
              <a:ext cx="1600200" cy="60984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22"/>
          <p:cNvGrpSpPr/>
          <p:nvPr/>
        </p:nvGrpSpPr>
        <p:grpSpPr>
          <a:xfrm>
            <a:off x="4343400" y="1981080"/>
            <a:ext cx="1828800" cy="1010160"/>
            <a:chOff x="4343400" y="1981080"/>
            <a:chExt cx="1828800" cy="1010160"/>
          </a:xfrm>
        </p:grpSpPr>
        <p:sp>
          <p:nvSpPr>
            <p:cNvPr id="53" name="Line 23"/>
            <p:cNvSpPr/>
            <p:nvPr/>
          </p:nvSpPr>
          <p:spPr>
            <a:xfrm>
              <a:off x="4648320" y="1981080"/>
              <a:ext cx="304560" cy="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24"/>
            <p:cNvSpPr/>
            <p:nvPr/>
          </p:nvSpPr>
          <p:spPr>
            <a:xfrm>
              <a:off x="4343400" y="2592360"/>
              <a:ext cx="1828800" cy="398880"/>
            </a:xfrm>
            <a:prstGeom prst="rect">
              <a:avLst/>
            </a:prstGeom>
            <a:solidFill>
              <a:srgbClr val="ffff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魏碑"/>
                  <a:ea typeface="魏碑"/>
                </a:rPr>
                <a:t>被插值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5"/>
            <p:cNvSpPr/>
            <p:nvPr/>
          </p:nvSpPr>
          <p:spPr>
            <a:xfrm>
              <a:off x="4800600" y="1981080"/>
              <a:ext cx="533520" cy="60984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26"/>
          <p:cNvGrpSpPr/>
          <p:nvPr/>
        </p:nvGrpSpPr>
        <p:grpSpPr>
          <a:xfrm>
            <a:off x="2133720" y="1981080"/>
            <a:ext cx="1981080" cy="1008720"/>
            <a:chOff x="2133720" y="1981080"/>
            <a:chExt cx="1981080" cy="1008720"/>
          </a:xfrm>
        </p:grpSpPr>
        <p:sp>
          <p:nvSpPr>
            <p:cNvPr id="57" name="Line 27"/>
            <p:cNvSpPr/>
            <p:nvPr/>
          </p:nvSpPr>
          <p:spPr>
            <a:xfrm>
              <a:off x="3429000" y="1981080"/>
              <a:ext cx="685800" cy="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28"/>
            <p:cNvSpPr/>
            <p:nvPr/>
          </p:nvSpPr>
          <p:spPr>
            <a:xfrm>
              <a:off x="2133720" y="2590920"/>
              <a:ext cx="1752480" cy="398880"/>
            </a:xfrm>
            <a:prstGeom prst="rect">
              <a:avLst/>
            </a:prstGeom>
            <a:solidFill>
              <a:srgbClr val="ffff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插值节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29"/>
            <p:cNvSpPr/>
            <p:nvPr/>
          </p:nvSpPr>
          <p:spPr>
            <a:xfrm flipV="1">
              <a:off x="2971800" y="1981080"/>
              <a:ext cx="838080" cy="60984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30"/>
          <p:cNvGrpSpPr/>
          <p:nvPr/>
        </p:nvGrpSpPr>
        <p:grpSpPr>
          <a:xfrm>
            <a:off x="228600" y="1981080"/>
            <a:ext cx="1676520" cy="932400"/>
            <a:chOff x="228600" y="1981080"/>
            <a:chExt cx="1676520" cy="932400"/>
          </a:xfrm>
        </p:grpSpPr>
        <p:sp>
          <p:nvSpPr>
            <p:cNvPr id="61" name="Line 31"/>
            <p:cNvSpPr/>
            <p:nvPr/>
          </p:nvSpPr>
          <p:spPr>
            <a:xfrm>
              <a:off x="1371600" y="1981080"/>
              <a:ext cx="457200" cy="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32"/>
            <p:cNvSpPr/>
            <p:nvPr/>
          </p:nvSpPr>
          <p:spPr>
            <a:xfrm>
              <a:off x="228600" y="2514600"/>
              <a:ext cx="1676520" cy="398880"/>
            </a:xfrm>
            <a:prstGeom prst="rect">
              <a:avLst/>
            </a:prstGeom>
            <a:solidFill>
              <a:srgbClr val="ffff99"/>
            </a:solidFill>
            <a:ln cap="sq"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魏碑"/>
                  <a:ea typeface="魏碑"/>
                </a:rPr>
                <a:t>xi</a:t>
              </a:r>
              <a:r>
                <a:rPr b="1" lang="zh-CN" sz="2000" spc="-1" strike="noStrike">
                  <a:solidFill>
                    <a:srgbClr val="000000"/>
                  </a:solidFill>
                  <a:latin typeface="魏碑"/>
                  <a:ea typeface="魏碑"/>
                </a:rPr>
                <a:t>处的插值结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33"/>
            <p:cNvSpPr/>
            <p:nvPr/>
          </p:nvSpPr>
          <p:spPr>
            <a:xfrm flipV="1">
              <a:off x="990720" y="1981080"/>
              <a:ext cx="609480" cy="53352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 Box 34"/>
          <p:cNvSpPr/>
          <p:nvPr/>
        </p:nvSpPr>
        <p:spPr>
          <a:xfrm>
            <a:off x="4716360" y="3500280"/>
            <a:ext cx="4283280" cy="107208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魏碑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魏碑"/>
              </a:rPr>
              <a:t>linear’</a:t>
            </a:r>
            <a:r>
              <a:rPr b="1" lang="en-US" sz="2000" spc="-1" strike="noStrike">
                <a:solidFill>
                  <a:srgbClr val="000000"/>
                </a:solidFill>
                <a:latin typeface="魏碑"/>
                <a:ea typeface="魏碑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魏碑"/>
                <a:ea typeface="魏碑"/>
              </a:rPr>
              <a:t>：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魏碑"/>
              </a:rPr>
              <a:t>线性插值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魏碑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魏碑"/>
              </a:rPr>
              <a:t>spline’</a:t>
            </a:r>
            <a:r>
              <a:rPr b="1" lang="en-US" sz="2000" spc="-1" strike="noStrike">
                <a:solidFill>
                  <a:srgbClr val="000000"/>
                </a:solidFill>
                <a:latin typeface="魏碑"/>
                <a:ea typeface="魏碑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魏碑"/>
                <a:ea typeface="魏碑"/>
              </a:rPr>
              <a:t>： 三次样条插值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魏碑"/>
                <a:ea typeface="魏碑"/>
              </a:rPr>
              <a:t>缺省时：  分段线性插值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5"/>
          <p:cNvSpPr/>
          <p:nvPr/>
        </p:nvSpPr>
        <p:spPr>
          <a:xfrm>
            <a:off x="0" y="4905360"/>
            <a:ext cx="9144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仿宋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</a:rPr>
              <a:t>注意：所有的插值方法都要求</a:t>
            </a:r>
            <a:r>
              <a:rPr b="1" lang="en-US" sz="2400" spc="-1" strike="noStrike">
                <a:solidFill>
                  <a:srgbClr val="ffffff"/>
                </a:solidFill>
                <a:latin typeface="仿宋_GB2312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</a:rPr>
              <a:t>是单调的。</a:t>
            </a:r>
            <a:r>
              <a:rPr b="1" lang="en-US" sz="2400" spc="-1" strike="noStrike">
                <a:solidFill>
                  <a:srgbClr val="ffffff"/>
                </a:solidFill>
                <a:latin typeface="仿宋_GB2312"/>
              </a:rPr>
              <a:t>linear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</a:rPr>
              <a:t>方法要求</a:t>
            </a:r>
            <a:r>
              <a:rPr b="1" lang="en-US" sz="2400" spc="-1" strike="noStrike">
                <a:solidFill>
                  <a:srgbClr val="ffffff"/>
                </a:solidFill>
                <a:latin typeface="仿宋_GB2312"/>
              </a:rPr>
              <a:t>xi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</a:rPr>
              <a:t>不能够超过</a:t>
            </a:r>
            <a:r>
              <a:rPr b="1" lang="en-US" sz="2400" spc="-1" strike="noStrike">
                <a:solidFill>
                  <a:srgbClr val="ffffff"/>
                </a:solidFill>
                <a:latin typeface="仿宋_GB2312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</a:rPr>
              <a:t>的范围（</a:t>
            </a:r>
            <a:r>
              <a:rPr b="1" lang="zh-CN" sz="2400" spc="-1" strike="noStrike">
                <a:solidFill>
                  <a:srgbClr val="66ffff"/>
                </a:solidFill>
                <a:latin typeface="仿宋_GB2312"/>
              </a:rPr>
              <a:t>内插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</a:rPr>
              <a:t>），</a:t>
            </a:r>
            <a:r>
              <a:rPr b="1" lang="en-US" sz="2400" spc="-1" strike="noStrike">
                <a:solidFill>
                  <a:srgbClr val="ffffff"/>
                </a:solidFill>
                <a:latin typeface="仿宋_GB2312"/>
              </a:rPr>
              <a:t>spline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</a:rPr>
              <a:t>方法中</a:t>
            </a:r>
            <a:r>
              <a:rPr b="1" lang="en-US" sz="2400" spc="-1" strike="noStrike">
                <a:solidFill>
                  <a:srgbClr val="ffffff"/>
                </a:solidFill>
                <a:latin typeface="仿宋_GB2312"/>
              </a:rPr>
              <a:t>xi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</a:rPr>
              <a:t>可以超出</a:t>
            </a:r>
            <a:r>
              <a:rPr b="1" lang="en-US" sz="2400" spc="-1" strike="noStrike">
                <a:solidFill>
                  <a:srgbClr val="ffffff"/>
                </a:solidFill>
                <a:latin typeface="仿宋_GB2312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</a:rPr>
              <a:t>的范围，超出时将采用外推法计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7"/>
          <p:cNvSpPr/>
          <p:nvPr/>
        </p:nvSpPr>
        <p:spPr>
          <a:xfrm>
            <a:off x="7451640" y="3141720"/>
            <a:ext cx="0" cy="304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8"/>
          <p:cNvSpPr/>
          <p:nvPr/>
        </p:nvSpPr>
        <p:spPr>
          <a:xfrm>
            <a:off x="1981080" y="685800"/>
            <a:ext cx="3810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2268360" y="333360"/>
            <a:ext cx="3810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179280" y="98100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</a:rPr>
              <a:t>二维插值函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7"/>
          <p:cNvSpPr/>
          <p:nvPr/>
        </p:nvSpPr>
        <p:spPr>
          <a:xfrm>
            <a:off x="1260360" y="134136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魏碑"/>
              </a:rPr>
              <a:t>zi=interp2(x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魏碑"/>
              </a:rPr>
              <a:t>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魏碑"/>
              </a:rPr>
              <a:t>y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魏碑"/>
              </a:rPr>
              <a:t>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魏碑"/>
              </a:rPr>
              <a:t>z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魏碑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魏碑"/>
              </a:rPr>
              <a:t>xi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魏碑"/>
              </a:rPr>
              <a:t>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魏碑"/>
              </a:rPr>
              <a:t>yi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'method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7"/>
          <p:cNvGrpSpPr/>
          <p:nvPr/>
        </p:nvGrpSpPr>
        <p:grpSpPr>
          <a:xfrm>
            <a:off x="5435640" y="2025720"/>
            <a:ext cx="1828800" cy="1010160"/>
            <a:chOff x="5435640" y="2025720"/>
            <a:chExt cx="1828800" cy="1010160"/>
          </a:xfrm>
        </p:grpSpPr>
        <p:sp>
          <p:nvSpPr>
            <p:cNvPr id="72" name="Line 23"/>
            <p:cNvSpPr/>
            <p:nvPr/>
          </p:nvSpPr>
          <p:spPr>
            <a:xfrm>
              <a:off x="5483160" y="2025720"/>
              <a:ext cx="1008000" cy="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24"/>
            <p:cNvSpPr/>
            <p:nvPr/>
          </p:nvSpPr>
          <p:spPr>
            <a:xfrm>
              <a:off x="5435640" y="2637000"/>
              <a:ext cx="1828800" cy="398880"/>
            </a:xfrm>
            <a:prstGeom prst="rect">
              <a:avLst/>
            </a:prstGeom>
            <a:solidFill>
              <a:srgbClr val="ffff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魏碑"/>
                  <a:ea typeface="魏碑"/>
                </a:rPr>
                <a:t>被插值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25"/>
            <p:cNvSpPr/>
            <p:nvPr/>
          </p:nvSpPr>
          <p:spPr>
            <a:xfrm>
              <a:off x="5867280" y="2025720"/>
              <a:ext cx="533520" cy="60948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2124000" y="1988640"/>
            <a:ext cx="2879640" cy="1008720"/>
            <a:chOff x="2124000" y="1988640"/>
            <a:chExt cx="2879640" cy="1008720"/>
          </a:xfrm>
        </p:grpSpPr>
        <p:sp>
          <p:nvSpPr>
            <p:cNvPr id="76" name="Line 27"/>
            <p:cNvSpPr/>
            <p:nvPr/>
          </p:nvSpPr>
          <p:spPr>
            <a:xfrm>
              <a:off x="3419640" y="1989000"/>
              <a:ext cx="1584000" cy="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28"/>
            <p:cNvSpPr/>
            <p:nvPr/>
          </p:nvSpPr>
          <p:spPr>
            <a:xfrm>
              <a:off x="2124000" y="2598480"/>
              <a:ext cx="1752840" cy="398880"/>
            </a:xfrm>
            <a:prstGeom prst="rect">
              <a:avLst/>
            </a:prstGeom>
            <a:solidFill>
              <a:srgbClr val="ffff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插值节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9"/>
            <p:cNvSpPr/>
            <p:nvPr/>
          </p:nvSpPr>
          <p:spPr>
            <a:xfrm flipV="1">
              <a:off x="2987640" y="1988640"/>
              <a:ext cx="1079640" cy="60948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30"/>
          <p:cNvGrpSpPr/>
          <p:nvPr/>
        </p:nvGrpSpPr>
        <p:grpSpPr>
          <a:xfrm>
            <a:off x="324000" y="1989000"/>
            <a:ext cx="1676160" cy="932400"/>
            <a:chOff x="324000" y="1989000"/>
            <a:chExt cx="1676160" cy="932400"/>
          </a:xfrm>
        </p:grpSpPr>
        <p:sp>
          <p:nvSpPr>
            <p:cNvPr id="80" name="Line 31"/>
            <p:cNvSpPr/>
            <p:nvPr/>
          </p:nvSpPr>
          <p:spPr>
            <a:xfrm>
              <a:off x="1466640" y="1989000"/>
              <a:ext cx="456840" cy="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32"/>
            <p:cNvSpPr/>
            <p:nvPr/>
          </p:nvSpPr>
          <p:spPr>
            <a:xfrm>
              <a:off x="324000" y="2522520"/>
              <a:ext cx="1676160" cy="398880"/>
            </a:xfrm>
            <a:prstGeom prst="rect">
              <a:avLst/>
            </a:prstGeom>
            <a:solidFill>
              <a:srgbClr val="ffff99"/>
            </a:solidFill>
            <a:ln cap="sq"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魏碑"/>
                  <a:ea typeface="魏碑"/>
                </a:rPr>
                <a:t>xi</a:t>
              </a:r>
              <a:r>
                <a:rPr b="1" lang="zh-CN" sz="2000" spc="-1" strike="noStrike">
                  <a:solidFill>
                    <a:srgbClr val="000000"/>
                  </a:solidFill>
                  <a:latin typeface="魏碑"/>
                  <a:ea typeface="魏碑"/>
                </a:rPr>
                <a:t>处的插值结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33"/>
            <p:cNvSpPr/>
            <p:nvPr/>
          </p:nvSpPr>
          <p:spPr>
            <a:xfrm flipV="1">
              <a:off x="1085760" y="1989000"/>
              <a:ext cx="609120" cy="53352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Text Box 34"/>
          <p:cNvSpPr/>
          <p:nvPr/>
        </p:nvSpPr>
        <p:spPr>
          <a:xfrm>
            <a:off x="4643280" y="3716280"/>
            <a:ext cx="4283280" cy="107208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魏碑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魏碑"/>
              </a:rPr>
              <a:t>linear’</a:t>
            </a:r>
            <a:r>
              <a:rPr b="1" lang="en-US" sz="2000" spc="-1" strike="noStrike">
                <a:solidFill>
                  <a:srgbClr val="000000"/>
                </a:solidFill>
                <a:latin typeface="魏碑"/>
                <a:ea typeface="魏碑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魏碑"/>
                <a:ea typeface="魏碑"/>
              </a:rPr>
              <a:t>：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魏碑"/>
              </a:rPr>
              <a:t>线性插值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魏碑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魏碑"/>
              </a:rPr>
              <a:t>spline’</a:t>
            </a:r>
            <a:r>
              <a:rPr b="1" lang="en-US" sz="2000" spc="-1" strike="noStrike">
                <a:solidFill>
                  <a:srgbClr val="000000"/>
                </a:solidFill>
                <a:latin typeface="魏碑"/>
                <a:ea typeface="魏碑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魏碑"/>
                <a:ea typeface="魏碑"/>
              </a:rPr>
              <a:t>： 三次样条插值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魏碑"/>
                <a:ea typeface="魏碑"/>
              </a:rPr>
              <a:t>缺省时：  分段线性插值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395280" y="464976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</a:rPr>
              <a:t>三维插值函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7"/>
          <p:cNvSpPr/>
          <p:nvPr/>
        </p:nvSpPr>
        <p:spPr>
          <a:xfrm>
            <a:off x="324000" y="522936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魏碑"/>
              </a:rPr>
              <a:t>yi=interp3(x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魏碑"/>
              </a:rPr>
              <a:t>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魏碑"/>
              </a:rPr>
              <a:t>y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魏碑"/>
              </a:rPr>
              <a:t>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魏碑"/>
              </a:rPr>
              <a:t>z, v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魏碑"/>
              </a:rPr>
              <a:t>xi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魏碑"/>
              </a:rPr>
              <a:t>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魏碑"/>
              </a:rPr>
              <a:t>yi, zi,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'method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18"/>
          <p:cNvGrpSpPr/>
          <p:nvPr/>
        </p:nvGrpSpPr>
        <p:grpSpPr>
          <a:xfrm>
            <a:off x="7308720" y="1989000"/>
            <a:ext cx="1584360" cy="1065240"/>
            <a:chOff x="7308720" y="1989000"/>
            <a:chExt cx="1584360" cy="1065240"/>
          </a:xfrm>
        </p:grpSpPr>
        <p:sp>
          <p:nvSpPr>
            <p:cNvPr id="87" name="Text Box 19"/>
            <p:cNvSpPr/>
            <p:nvPr/>
          </p:nvSpPr>
          <p:spPr>
            <a:xfrm>
              <a:off x="7957800" y="2655360"/>
              <a:ext cx="935280" cy="398880"/>
            </a:xfrm>
            <a:prstGeom prst="rect">
              <a:avLst/>
            </a:prstGeom>
            <a:solidFill>
              <a:srgbClr val="ffff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魏碑"/>
                  <a:ea typeface="魏碑"/>
                </a:rPr>
                <a:t>插值方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20"/>
            <p:cNvSpPr/>
            <p:nvPr/>
          </p:nvSpPr>
          <p:spPr>
            <a:xfrm>
              <a:off x="7308720" y="1989000"/>
              <a:ext cx="649800" cy="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21"/>
            <p:cNvSpPr/>
            <p:nvPr/>
          </p:nvSpPr>
          <p:spPr>
            <a:xfrm>
              <a:off x="7633440" y="1989000"/>
              <a:ext cx="853200" cy="666360"/>
            </a:xfrm>
            <a:prstGeom prst="line">
              <a:avLst/>
            </a:prstGeom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Line 37"/>
          <p:cNvSpPr/>
          <p:nvPr/>
        </p:nvSpPr>
        <p:spPr>
          <a:xfrm>
            <a:off x="8388360" y="3284640"/>
            <a:ext cx="1440" cy="333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684360" y="333360"/>
            <a:ext cx="7777080" cy="5814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用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ATLAB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作插值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interpolation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计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8"/>
          <p:cNvSpPr/>
          <p:nvPr/>
        </p:nvSpPr>
        <p:spPr>
          <a:xfrm>
            <a:off x="1981080" y="685800"/>
            <a:ext cx="3810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108000" y="318960"/>
            <a:ext cx="2808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华文行楷"/>
                <a:ea typeface="华文行楷"/>
              </a:rPr>
              <a:t>例题</a:t>
            </a:r>
            <a:r>
              <a:rPr b="1" lang="en-US" sz="2800" spc="-1" strike="noStrike">
                <a:solidFill>
                  <a:srgbClr val="00ff00"/>
                </a:solidFill>
                <a:latin typeface="华文行楷"/>
                <a:ea typeface="华文行楷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498600" y="7668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对于连续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12"/>
              <p:cNvSpPr txBox="1"/>
              <p:nvPr/>
            </p:nvSpPr>
            <p:spPr>
              <a:xfrm>
                <a:off x="2916360" y="620640"/>
                <a:ext cx="158112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Text Box 23"/>
          <p:cNvSpPr/>
          <p:nvPr/>
        </p:nvSpPr>
        <p:spPr>
          <a:xfrm>
            <a:off x="826920" y="135252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</a:rPr>
              <a:t>在区间</a:t>
            </a:r>
            <a:r>
              <a:rPr b="1" lang="en-US" sz="2400" spc="-1" strike="noStrike">
                <a:solidFill>
                  <a:srgbClr val="ffffff"/>
                </a:solidFill>
                <a:latin typeface="仿宋_GB2312"/>
              </a:rPr>
              <a:t>[-5,5]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</a:rPr>
              <a:t>上等距取不同数目插值节点，利用</a:t>
            </a:r>
            <a:r>
              <a:rPr b="1" lang="en-US" sz="2400" spc="-1" strike="noStrike">
                <a:solidFill>
                  <a:srgbClr val="ffffff"/>
                </a:solidFill>
                <a:latin typeface="仿宋_GB2312"/>
              </a:rPr>
              <a:t>Matlab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</a:rPr>
              <a:t>中自带插值命令求解并画出</a:t>
            </a:r>
            <a:r>
              <a:rPr b="1" lang="en-US" sz="2400" spc="-1" strike="noStrike">
                <a:solidFill>
                  <a:srgbClr val="ffffff"/>
                </a:solidFill>
                <a:latin typeface="仿宋_GB2312"/>
              </a:rPr>
              <a:t>[-5,5]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</a:rPr>
              <a:t>区间的函数图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/>
          <p:cNvSpPr/>
          <p:nvPr/>
        </p:nvSpPr>
        <p:spPr>
          <a:xfrm>
            <a:off x="900000" y="2349360"/>
            <a:ext cx="5040360" cy="64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见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atlab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程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hapter1_example_3_Spline_Matlab.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900000" y="3573360"/>
            <a:ext cx="73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</a:rPr>
              <a:t>测得平板表面</a:t>
            </a:r>
            <a:r>
              <a:rPr b="1" lang="en-US" sz="2400" spc="-1" strike="noStrike">
                <a:solidFill>
                  <a:srgbClr val="ffffff"/>
                </a:solidFill>
                <a:latin typeface="仿宋_GB2312"/>
              </a:rPr>
              <a:t>3*5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</a:rPr>
              <a:t>网格点处的温度分别为：     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仿宋_GB2312"/>
              </a:rPr>
              <a:t>82  81  80  82  84                                                                           79  63  61  65  81                                                                                  84  84  82  85  86                                                                                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</a:rPr>
              <a:t>试作出平板表面的温度分布曲面</a:t>
            </a:r>
            <a:r>
              <a:rPr b="1" lang="en-US" sz="2400" spc="-1" strike="noStrike">
                <a:solidFill>
                  <a:srgbClr val="ffffff"/>
                </a:solidFill>
                <a:latin typeface="仿宋_GB2312"/>
              </a:rPr>
              <a:t>z=f(x,y)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</a:rPr>
              <a:t>的图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179280" y="3284640"/>
            <a:ext cx="280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华文行楷"/>
                <a:ea typeface="华文行楷"/>
              </a:rPr>
              <a:t>例题</a:t>
            </a:r>
            <a:r>
              <a:rPr b="1" lang="en-US" sz="2800" spc="-1" strike="noStrike">
                <a:solidFill>
                  <a:srgbClr val="00ff00"/>
                </a:solidFill>
                <a:latin typeface="华文行楷"/>
                <a:ea typeface="华文行楷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7"/>
          <p:cNvSpPr/>
          <p:nvPr/>
        </p:nvSpPr>
        <p:spPr>
          <a:xfrm>
            <a:off x="971640" y="5734080"/>
            <a:ext cx="3241440" cy="64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见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atlab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程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hapter1_example_4_2d.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8T00:43:24Z</dcterms:created>
  <dc:creator>Zhongfeng Xu</dc:creator>
  <dc:description/>
  <dc:language>en-US</dc:language>
  <cp:lastModifiedBy>jiangcw</cp:lastModifiedBy>
  <dcterms:modified xsi:type="dcterms:W3CDTF">2019-03-15T03:58:58Z</dcterms:modified>
  <cp:revision>1028</cp:revision>
  <dc:subject/>
  <dc:title>Indroduction</dc:title>
</cp:coreProperties>
</file>